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DB92-9A64-46CB-BCD0-5E259FBC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99D7-79BA-4AF6-AB38-73C4EC8A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DE82-70FE-428F-B40C-120BA884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DD26-688C-4B44-A3DB-616E721D8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C321-D23D-4AC8-99BF-273C7A6D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6A64-CFA4-4715-9B36-38AA6079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310C-231A-4C59-B6C1-847B191E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5AE2-B825-442D-AD44-DC38D89F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CBAA-E94A-42F0-BBBF-0563C7BF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480D-232B-4CB8-B913-2782C31F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6792-29C2-456E-A6F9-B39FDD77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102D-D1B6-4529-8861-EF4A5617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F7F5A7-E424-4745-8419-38C423D1328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A89C0-76CE-486E-AE7A-2EEC1D7231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m 4" descr=""/>
          <p:cNvPicPr/>
          <p:nvPr/>
        </p:nvPicPr>
        <p:blipFill>
          <a:blip r:embed="rId1"/>
          <a:stretch/>
        </p:blipFill>
        <p:spPr>
          <a:xfrm>
            <a:off x="328680" y="1427040"/>
            <a:ext cx="4120920" cy="2638440"/>
          </a:xfrm>
          <a:prstGeom prst="rect">
            <a:avLst/>
          </a:prstGeom>
          <a:ln w="0">
            <a:noFill/>
          </a:ln>
        </p:spPr>
      </p:pic>
      <p:sp>
        <p:nvSpPr>
          <p:cNvPr id="42" name="Textfeld 5"/>
          <p:cNvSpPr/>
          <p:nvPr/>
        </p:nvSpPr>
        <p:spPr>
          <a:xfrm>
            <a:off x="4377960" y="189396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=0.0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feld 119"/>
          <p:cNvSpPr/>
          <p:nvPr/>
        </p:nvSpPr>
        <p:spPr>
          <a:xfrm>
            <a:off x="338040" y="414360"/>
            <a:ext cx="210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upplementary Figure S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feld 8"/>
          <p:cNvSpPr/>
          <p:nvPr/>
        </p:nvSpPr>
        <p:spPr>
          <a:xfrm>
            <a:off x="333360" y="844560"/>
            <a:ext cx="458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of T790M mutation in pre-treatment tumor specim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5"/>
          <p:cNvSpPr/>
          <p:nvPr/>
        </p:nvSpPr>
        <p:spPr>
          <a:xfrm>
            <a:off x="1876320" y="399420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ad frequ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20:04:50Z</dcterms:created>
  <dc:creator>Thomas Zander</dc:creator>
  <dc:description/>
  <dc:language>en-US</dc:language>
  <cp:lastModifiedBy>Sascha Ansen</cp:lastModifiedBy>
  <dcterms:modified xsi:type="dcterms:W3CDTF">2011-03-29T12:49:30Z</dcterms:modified>
  <cp:revision>15</cp:revision>
  <dc:subject/>
  <dc:title>Folie 1</dc:title>
</cp:coreProperties>
</file>